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A0C6-9A6D-4E70-937E-2A0EE4CE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E287-C786-4684-8EFC-44ADF398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80C-44E7-41BB-B38F-376C1743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31D-3677-438B-9879-7E0985A9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3536-8AA0-4428-A5F5-A3E8D033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54CE-308A-4C60-8465-1BBF673D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642D-793F-46E1-965E-FBF191ED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5BE3-8DE0-44FB-A999-9F270A67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C2E6-98D3-478F-A6F3-8B95AFF9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10B5-3921-4A33-9E49-B22A1DD5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A460-8852-4770-B675-BBDEF644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7B3-663B-47F9-A23A-70A30EF5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8012-7B7D-4EC8-95BC-DAB7F53C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36AB-4D38-4D85-A608-A56CEC4C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6D33-8276-4BC9-8E8C-E4C805BE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9D45-1B4C-4581-BA00-F35177F3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2ADC-F712-46B9-AD1A-3149B8AE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73B-147F-4532-9F2C-EC610645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B01-1BBA-4771-8909-782D00E9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1AA-D22D-412C-BE80-421A2701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DBEC-CF90-48F3-BFDE-7BE2FEE8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A2B-D07F-40ED-BBC6-A93F6DB6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B61-54D9-4977-BE55-F31F3AA3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980-76AE-4E7C-B30E-0CBA2E68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C52A-7657-45DC-AE6E-408FB15CD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4DD9-F6A2-41E8-ADAE-1D89FFAE4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itosis Review and Meiosi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al of mitosi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two new identical daughter cells from 1 c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regular somatic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3962520" cy="3424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952880" y="304812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iosi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4 genetically different haploid  sex cells from 1 c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285732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sex cell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x cells are haploi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ploid:  containing half the amount of genetic material as original c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omatic cells have 46 chromoso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ex cells only have 2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3472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ases of meio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2 div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MA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o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hase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phase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phase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ophase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98244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20:31:26Z</dcterms:created>
  <dc:creator>Tera Linn</dc:creator>
  <dc:description/>
  <dc:language>en-US</dc:language>
  <cp:lastModifiedBy>Tera Linn</cp:lastModifiedBy>
  <dcterms:modified xsi:type="dcterms:W3CDTF">2009-03-25T20:56:13Z</dcterms:modified>
  <cp:revision>2</cp:revision>
  <dc:subject/>
  <dc:title>Mitosis Review and Meiosis</dc:title>
</cp:coreProperties>
</file>